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385128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931680" y="73980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Light"/>
              </a:rPr>
              <a:t>Click to move the slide</a:t>
            </a: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7080" cy="44452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1"/>
          </p:nvPr>
        </p:nvSpPr>
        <p:spPr>
          <a:xfrm>
            <a:off x="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2"/>
          </p:nvPr>
        </p:nvSpPr>
        <p:spPr>
          <a:xfrm>
            <a:off x="385128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F9C8-510B-4594-BB01-DEA672774D46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70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1280" y="938052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DD0F-6E81-4026-92BF-113872898E6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70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38052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1A3E-266C-4BC2-B66E-33297CFC5B0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98C-6D23-4E9A-9698-272611D4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A1C-5B85-4480-9A1E-B0AE9EA3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6AA-A768-4E44-A82C-F437FFAF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44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232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856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44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232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519-08BD-492D-8204-42B78671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C374-CB4F-4418-B9C7-6ED4C9EA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FF22-8405-4ACF-AAD0-35925E17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B01F-F149-4F1C-8B13-49EA2B57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5551-1C94-418F-AF54-DD00E472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2FAA-9D4E-41EE-9ECC-E34BA7A9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8560" y="107316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8B27-0F3C-41E8-A9A7-6FA2744E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63EE-9BB6-4B76-BA15-2D7DD231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BA9-FCCB-4FD9-BABA-6C910749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1FCA-3855-4A0F-BED5-8C1969FF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F032-4942-4314-A72B-9A0C9FA1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8CE4-3C0D-4A5A-8D85-6EE1E70F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DED3-4250-45D4-9EA5-561FA613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544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232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856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544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232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BEAA-EF72-4C58-B06B-46745E79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22D0-0604-4305-9052-F4A349A5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F14B-EFBE-4324-B590-D8A11E1C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C7C3-B9F8-414D-A806-0CDE5EF8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F57D-6E47-45E0-869C-A65EAADC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F8FC0-34D5-4304-A919-17833FBF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81B-E007-4C86-88E6-3441BE01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28560" y="107316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B69BD-9F0C-4264-B15D-202E3303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3D30-D634-42AB-A277-F6ECAED5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C110-1704-4319-BCBC-70D80BCF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BC984-7457-4631-932F-D73E410C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D4FE6-95C3-47BE-8B50-1BD2B500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AD993-F404-43D7-A606-91813785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9544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232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2856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9544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232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5AA9-FDA3-497F-8302-D255AE70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37C-1053-4FE7-8C1F-BAF324F7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28560" y="107316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9544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6232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2856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9544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6232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E4E-992E-4919-B3D7-4C667423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28560" y="107316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28560" y="107316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5BA-768F-4DD1-9C6A-DD710B82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9544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6232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856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9544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6232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80E-1E8A-4087-A85B-542D3922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0AA-63C0-494C-907F-ABC0CC3D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42B-B013-4922-9A89-63A0D05F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image" Target="../media/image5.png"/><Relationship Id="rId6" Type="http://schemas.openxmlformats.org/officeDocument/2006/relationships/image" Target="../media/image3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Εικόνα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Light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4F9F-7225-4459-B7C6-C1B96C37A875}" type="datetime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A76F-3440-4A1B-8AFE-50E7FEBDF9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Box 14"/>
          <p:cNvSpPr/>
          <p:nvPr/>
        </p:nvSpPr>
        <p:spPr>
          <a:xfrm>
            <a:off x="-56880" y="-76320"/>
            <a:ext cx="91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>
                <a:solidFill>
                  <a:srgbClr val="ffffff"/>
                </a:solidFill>
                <a:latin typeface="Calibri"/>
              </a:rPr>
              <a:t>Ε.Π. «ΥΠΟΔΟΜΕΣ ΜΕΤΑΦΟΡΩΝ, ΠΕΡΙΒΑΛΛΟΝ &amp; ΑΕΙΦΟΡΟΣ ΑΝΑΠΤΥΞΗ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5"/>
          <p:cNvSpPr/>
          <p:nvPr/>
        </p:nvSpPr>
        <p:spPr>
          <a:xfrm>
            <a:off x="0" y="304920"/>
            <a:ext cx="9220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Εκδήλωση για τις δράσεις του ΕΠ-ΥΜΕΠΕΡΑΑ στην Περιφέρεια ΑΜΘ, </a:t>
            </a:r>
            <a:r>
              <a:rPr b="1" lang="el-GR" sz="1700" spc="-1" strike="noStrike">
                <a:solidFill>
                  <a:srgbClr val="d6eaaf"/>
                </a:solidFill>
                <a:latin typeface="Calibri"/>
              </a:rPr>
              <a:t>Κομοτηνή 21 Δεκεμβρίου 2018</a:t>
            </a: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Εικόνα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4"/>
          <p:cNvSpPr/>
          <p:nvPr/>
        </p:nvSpPr>
        <p:spPr>
          <a:xfrm>
            <a:off x="-56880" y="-76320"/>
            <a:ext cx="91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>
                <a:solidFill>
                  <a:srgbClr val="ffffff"/>
                </a:solidFill>
                <a:latin typeface="Calibri"/>
              </a:rPr>
              <a:t>Ε.Π. «ΥΠΟΔΟΜΕΣ ΜΕΤΑΦΟΡΩΝ, ΠΕΡΙΒΑΛΛΟΝ &amp; ΑΕΙΦΟΡΟΣ ΑΝΑΠΤΥΞΗ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5"/>
          <p:cNvSpPr/>
          <p:nvPr/>
        </p:nvSpPr>
        <p:spPr>
          <a:xfrm>
            <a:off x="0" y="304920"/>
            <a:ext cx="9220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Εκδήλωση για τις δράσεις του ΕΠ-ΥΜΕΠΕΡΑΑ στην Περιφέρεια ΑΜΘ, </a:t>
            </a:r>
            <a:r>
              <a:rPr b="1" lang="el-GR" sz="1700" spc="-1" strike="noStrike">
                <a:solidFill>
                  <a:srgbClr val="d6eaaf"/>
                </a:solidFill>
                <a:latin typeface="Calibri"/>
              </a:rPr>
              <a:t>Κομοτηνή 21 Δεκεμβρίου 2018</a:t>
            </a: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Εικόνα 15" descr=""/>
          <p:cNvPicPr/>
          <p:nvPr/>
        </p:nvPicPr>
        <p:blipFill>
          <a:blip r:embed="rId3"/>
          <a:stretch/>
        </p:blipFill>
        <p:spPr>
          <a:xfrm>
            <a:off x="41400" y="5181480"/>
            <a:ext cx="1431720" cy="1623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>
                <a:alpha val="60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Light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9D26-BDB2-4EF1-BB24-5F5CAC70D5AE}" type="datetime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9355-92D6-446E-9DD3-DBE87F07C1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Εικόνα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4"/>
          <p:cNvSpPr/>
          <p:nvPr/>
        </p:nvSpPr>
        <p:spPr>
          <a:xfrm>
            <a:off x="-56880" y="-76320"/>
            <a:ext cx="91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>
                <a:solidFill>
                  <a:srgbClr val="ffffff"/>
                </a:solidFill>
                <a:latin typeface="Calibri"/>
              </a:rPr>
              <a:t>Ε.Π. «ΥΠΟΔΟΜΕΣ ΜΕΤΑΦΟΡΩΝ, ΠΕΡΙΒΑΛΛΟΝ &amp; ΑΕΙΦΟΡΟΣ ΑΝΑΠΤΥΞΗ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0" y="304920"/>
            <a:ext cx="9220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Εκδήλωση για τις δράσεις του ΕΠ-ΥΜΕΠΕΡΑΑ στην Περιφέρεια ΑΜΘ, </a:t>
            </a:r>
            <a:r>
              <a:rPr b="1" lang="el-GR" sz="1700" spc="-1" strike="noStrike">
                <a:solidFill>
                  <a:srgbClr val="d6eaaf"/>
                </a:solidFill>
                <a:latin typeface="Calibri"/>
              </a:rPr>
              <a:t>Κομοτηνή 21 Δεκεμβρίου 2018</a:t>
            </a: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Εικόνα 15" descr=""/>
          <p:cNvPicPr/>
          <p:nvPr/>
        </p:nvPicPr>
        <p:blipFill>
          <a:blip r:embed="rId3"/>
          <a:stretch/>
        </p:blipFill>
        <p:spPr>
          <a:xfrm>
            <a:off x="41400" y="5181480"/>
            <a:ext cx="1431720" cy="1623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>
                <a:alpha val="60000"/>
              </a:srgbClr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Light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A97B-4D18-4190-A3D2-02D72C1AFFAC}" type="datetime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47E1-3228-4A46-9B4D-AA162421DD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Εικόνα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4"/>
          <p:cNvSpPr/>
          <p:nvPr/>
        </p:nvSpPr>
        <p:spPr>
          <a:xfrm>
            <a:off x="-56880" y="-76320"/>
            <a:ext cx="91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>
                <a:solidFill>
                  <a:srgbClr val="ffffff"/>
                </a:solidFill>
                <a:latin typeface="Calibri"/>
              </a:rPr>
              <a:t>Ε.Π. «ΥΠΟΔΟΜΕΣ ΜΕΤΑΦΟΡΩΝ, ΠΕΡΙΒΑΛΛΟΝ &amp; ΑΕΙΦΟΡΟΣ ΑΝΑΠΤΥΞΗ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0" y="304920"/>
            <a:ext cx="9220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Εκδήλωση για τις δράσεις του ΕΠ-ΥΜΕΠΕΡΑΑ στην Περιφέρεια ΑΜΘ, </a:t>
            </a:r>
            <a:r>
              <a:rPr b="1" lang="el-GR" sz="1700" spc="-1" strike="noStrike">
                <a:solidFill>
                  <a:srgbClr val="d6eaaf"/>
                </a:solidFill>
                <a:latin typeface="Calibri"/>
              </a:rPr>
              <a:t>Κομοτηνή 21 Δεκεμβρίου 2018</a:t>
            </a: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"/>
          <p:cNvSpPr/>
          <p:nvPr/>
        </p:nvSpPr>
        <p:spPr>
          <a:xfrm>
            <a:off x="628560" y="5719680"/>
            <a:ext cx="800424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Εικόνα 7" descr=""/>
          <p:cNvPicPr/>
          <p:nvPr/>
        </p:nvPicPr>
        <p:blipFill>
          <a:blip r:embed="rId3"/>
          <a:stretch/>
        </p:blipFill>
        <p:spPr>
          <a:xfrm>
            <a:off x="5794200" y="1606680"/>
            <a:ext cx="3349800" cy="411156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20"/>
          <p:cNvGrpSpPr/>
          <p:nvPr/>
        </p:nvGrpSpPr>
        <p:grpSpPr>
          <a:xfrm>
            <a:off x="1682640" y="5972040"/>
            <a:ext cx="6171840" cy="693360"/>
            <a:chOff x="1682640" y="5972040"/>
            <a:chExt cx="6171840" cy="693360"/>
          </a:xfrm>
        </p:grpSpPr>
        <p:sp>
          <p:nvSpPr>
            <p:cNvPr id="140" name="Rectangle 14"/>
            <p:cNvSpPr/>
            <p:nvPr/>
          </p:nvSpPr>
          <p:spPr>
            <a:xfrm>
              <a:off x="3413160" y="6406200"/>
              <a:ext cx="365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2060"/>
                  </a:solidFill>
                  <a:latin typeface="Calibri"/>
                </a:rPr>
                <a:t>Με τη συγχρηματοδότηση της Ελλάδας και της Ευρωπαϊκής Ένωση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7" descr="espa1420_logo_rgb"/>
            <p:cNvPicPr/>
            <p:nvPr/>
          </p:nvPicPr>
          <p:blipFill>
            <a:blip r:embed="rId4"/>
            <a:stretch/>
          </p:blipFill>
          <p:spPr>
            <a:xfrm>
              <a:off x="6978600" y="6006600"/>
              <a:ext cx="875880" cy="6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9" descr="eu_edet"/>
            <p:cNvPicPr/>
            <p:nvPr/>
          </p:nvPicPr>
          <p:blipFill>
            <a:blip r:embed="rId5"/>
            <a:stretch/>
          </p:blipFill>
          <p:spPr>
            <a:xfrm>
              <a:off x="1682640" y="5972040"/>
              <a:ext cx="539280" cy="68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2" descr="Î¥ÏÎ¿ÏÏÎ³ÎµÎ¯Î¿ ÎÎ¹ÎºÎ¿Î½Î¿Î¼Î¯Î±Ï &amp; ÎÎ½Î¬ÏÏÏÎ¾Î·Ï"/>
          <p:cNvPicPr/>
          <p:nvPr/>
        </p:nvPicPr>
        <p:blipFill>
          <a:blip r:embed="rId6"/>
          <a:stretch/>
        </p:blipFill>
        <p:spPr>
          <a:xfrm>
            <a:off x="2286000" y="5972040"/>
            <a:ext cx="1290600" cy="630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Light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Εικόνα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4"/>
          <p:cNvSpPr/>
          <p:nvPr/>
        </p:nvSpPr>
        <p:spPr>
          <a:xfrm>
            <a:off x="-56880" y="-76320"/>
            <a:ext cx="91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>
                <a:solidFill>
                  <a:srgbClr val="ffffff"/>
                </a:solidFill>
                <a:latin typeface="Calibri"/>
              </a:rPr>
              <a:t>Ε.Π. «ΥΠΟΔΟΜΕΣ ΜΕΤΑΦΟΡΩΝ, ΠΕΡΙΒΑΛΛΟΝ &amp; ΑΕΙΦΟΡΟΣ ΑΝΑΠΤΥΞΗ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5"/>
          <p:cNvSpPr/>
          <p:nvPr/>
        </p:nvSpPr>
        <p:spPr>
          <a:xfrm>
            <a:off x="0" y="304920"/>
            <a:ext cx="9220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Εκδήλωση για τις δράσεις του ΕΠ-ΥΜΕΠΕΡΑΑ στην Περιφέρεια ΑΜΘ, </a:t>
            </a:r>
            <a:r>
              <a:rPr b="1" lang="el-GR" sz="1700" spc="-1" strike="noStrike">
                <a:solidFill>
                  <a:srgbClr val="d6eaaf"/>
                </a:solidFill>
                <a:latin typeface="Calibri"/>
              </a:rPr>
              <a:t>Κομοτηνή 21 Δεκεμβρίου 2018</a:t>
            </a: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Εικόνα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86" name="Straight Connector 9"/>
          <p:cNvSpPr/>
          <p:nvPr/>
        </p:nvSpPr>
        <p:spPr>
          <a:xfrm>
            <a:off x="628560" y="5719680"/>
            <a:ext cx="800424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0"/>
          <p:cNvGrpSpPr/>
          <p:nvPr/>
        </p:nvGrpSpPr>
        <p:grpSpPr>
          <a:xfrm>
            <a:off x="628560" y="6033960"/>
            <a:ext cx="7526160" cy="733680"/>
            <a:chOff x="628560" y="6033960"/>
            <a:chExt cx="7526160" cy="733680"/>
          </a:xfrm>
        </p:grpSpPr>
        <p:sp>
          <p:nvSpPr>
            <p:cNvPr id="188" name="Rectangle 14"/>
            <p:cNvSpPr/>
            <p:nvPr/>
          </p:nvSpPr>
          <p:spPr>
            <a:xfrm>
              <a:off x="2738520" y="6491160"/>
              <a:ext cx="445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Calibri"/>
                </a:rPr>
                <a:t>Με τη συγχρηματοδότηση της Ελλάδας και της Ευρωπαϊκής Ένωση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17" descr="espa1420_logo_rgb"/>
            <p:cNvPicPr/>
            <p:nvPr/>
          </p:nvPicPr>
          <p:blipFill>
            <a:blip r:embed="rId4"/>
            <a:stretch/>
          </p:blipFill>
          <p:spPr>
            <a:xfrm>
              <a:off x="7086600" y="6070680"/>
              <a:ext cx="106812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9" descr="eu_edet"/>
            <p:cNvPicPr/>
            <p:nvPr/>
          </p:nvPicPr>
          <p:blipFill>
            <a:blip r:embed="rId5"/>
            <a:stretch/>
          </p:blipFill>
          <p:spPr>
            <a:xfrm>
              <a:off x="628560" y="6033960"/>
              <a:ext cx="657720" cy="7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7"/>
          <p:cNvSpPr/>
          <p:nvPr/>
        </p:nvSpPr>
        <p:spPr>
          <a:xfrm>
            <a:off x="-66600" y="-73080"/>
            <a:ext cx="85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Calibri"/>
              </a:rPr>
              <a:t>ΕΙΔΙΚΗ ΓΡΑΜΜΑΤΕΙΑ ΔΙΑΧΕΙΡΙΣΗΣ ΤΟΜΕΑΚΩΝ ΕΠ ΤΟΥ ΕΤΠΑ &amp; Τ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-19440" y="384120"/>
            <a:ext cx="78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ΕΙΔΙΚΗ ΥΠΗΡΕΣΙΑ ΔΙΑΧΕΙΡΙΣΗΣ Ε.Π. «ΥΠΟΔΟΜΕΣ ΜΕΤΑΦΟΡΩΝ, ΠΕΡΙΒΑΛΛΟΝ &amp; ΑΕΙΦΟΡΟΣ ΑΝΑΠΤΥΞΗ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Εικόνα 7" descr=""/>
          <p:cNvPicPr/>
          <p:nvPr/>
        </p:nvPicPr>
        <p:blipFill>
          <a:blip r:embed="rId6"/>
          <a:stretch/>
        </p:blipFill>
        <p:spPr>
          <a:xfrm>
            <a:off x="5794200" y="1606680"/>
            <a:ext cx="3349800" cy="4111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Î¥ÏÎ¿ÏÏÎ³ÎµÎ¯Î¿ ÎÎ¹ÎºÎ¿Î½Î¿Î¼Î¯Î±Ï &amp; ÎÎ½Î¬ÏÏÏÎ¾Î·Ï"/>
          <p:cNvPicPr/>
          <p:nvPr/>
        </p:nvPicPr>
        <p:blipFill>
          <a:blip r:embed="rId7"/>
          <a:stretch/>
        </p:blipFill>
        <p:spPr>
          <a:xfrm>
            <a:off x="1303200" y="6049800"/>
            <a:ext cx="1435320" cy="7002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Light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Τίτλος 1"/>
          <p:cNvSpPr/>
          <p:nvPr/>
        </p:nvSpPr>
        <p:spPr>
          <a:xfrm>
            <a:off x="533520" y="1523880"/>
            <a:ext cx="8001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70c0"/>
                </a:solidFill>
                <a:latin typeface="Calibri Light"/>
              </a:rPr>
              <a:t>Ε.Π. «ΥΠΟΔΟΜΕΣ ΜΕΤΑΦΟΡΩΝ, </a:t>
            </a:r>
            <a:br>
              <a:rPr sz="3200"/>
            </a:br>
            <a:r>
              <a:rPr b="1" lang="el-GR" sz="3200" spc="-1" strike="noStrike">
                <a:solidFill>
                  <a:srgbClr val="0070c0"/>
                </a:solidFill>
                <a:latin typeface="Calibri Light"/>
              </a:rPr>
              <a:t>ΠΕΡΙΒΑΛΛΟΝ &amp; ΑΕΙΦΟΡΟΣ ΑΝΑΠΤΥΞΗ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 Light"/>
              </a:rPr>
              <a:t>Νέες Προσκλήσεις – Δυνατότητες χρηματοδότησης νέων έργων  στην Περιφέρεια Ανατολικής Μακεδονίας &amp; Θράκης </a:t>
            </a:r>
            <a:br>
              <a:rPr sz="28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el-GR" sz="2400" spc="-1" strike="noStrike">
                <a:solidFill>
                  <a:srgbClr val="0070c0"/>
                </a:solidFill>
                <a:latin typeface="Calibri Light"/>
              </a:rPr>
              <a:t>Χαράλαμπος  Αθ. Συρόπουλ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70c0"/>
                </a:solidFill>
                <a:latin typeface="Calibri Light"/>
              </a:rPr>
              <a:t>Αγρονόμος Τοπογράφος Μηχανικός Ε.Μ.Π., </a:t>
            </a:r>
            <a:r>
              <a:rPr b="1" i="1" lang="en-US" sz="1800" spc="-1" strike="noStrike">
                <a:solidFill>
                  <a:srgbClr val="0070c0"/>
                </a:solidFill>
                <a:latin typeface="Calibri Light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70c0"/>
                </a:solidFill>
                <a:latin typeface="Calibri Light"/>
              </a:rPr>
              <a:t>Προϊστάμενος Μονάδας Απ ΕΥΔ ΕΠ ΥΜΕΠΕΡΑΑ </a:t>
            </a:r>
            <a:br>
              <a:rPr sz="17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Ορθογώνιο 1"/>
          <p:cNvSpPr/>
          <p:nvPr/>
        </p:nvSpPr>
        <p:spPr>
          <a:xfrm>
            <a:off x="0" y="1066680"/>
            <a:ext cx="4572000" cy="56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3639c4"/>
                </a:solidFill>
                <a:uFillTx/>
                <a:latin typeface="Calibri"/>
              </a:rPr>
              <a:t>Ανατολική Μακεδονία &amp; Θράκ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 u="sng">
                <a:solidFill>
                  <a:srgbClr val="3639c4"/>
                </a:solidFill>
                <a:uFillTx/>
                <a:latin typeface="Calibri"/>
              </a:rPr>
              <a:t>Νέες Ενεργές Προσκλήσεις συνολικού διαθέσιμου προϋπολογισμού </a:t>
            </a:r>
            <a:r>
              <a:rPr b="1" lang="el-GR" sz="1600" spc="-1" strike="noStrike" u="sng">
                <a:solidFill>
                  <a:srgbClr val="3639c4"/>
                </a:solidFill>
                <a:uFillTx/>
                <a:latin typeface="Calibri"/>
              </a:rPr>
              <a:t>121.065.855</a:t>
            </a:r>
            <a:r>
              <a:rPr b="1" lang="el-GR" sz="1400" spc="-1" strike="noStrike" u="sng">
                <a:solidFill>
                  <a:srgbClr val="3639c4"/>
                </a:solidFill>
                <a:uFillTx/>
                <a:latin typeface="Calibri"/>
              </a:rPr>
              <a:t> γι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639c4"/>
                </a:solidFill>
                <a:latin typeface="Calibri"/>
              </a:rPr>
              <a:t>     </a:t>
            </a:r>
            <a:r>
              <a:rPr b="0" lang="el-GR" sz="1400" spc="-1" strike="noStrike">
                <a:solidFill>
                  <a:srgbClr val="3639c4"/>
                </a:solidFill>
                <a:latin typeface="Calibri"/>
              </a:rPr>
              <a:t>Ενεργειακή αναβάθμιση Νοσοκομείων </a:t>
            </a:r>
            <a:r>
              <a:rPr b="1" lang="el-GR" sz="1400" spc="-1" strike="noStrike">
                <a:solidFill>
                  <a:srgbClr val="ff0000"/>
                </a:solidFill>
                <a:latin typeface="Calibri"/>
              </a:rPr>
              <a:t>41.065.855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639c4"/>
                </a:solidFill>
                <a:latin typeface="Calibri"/>
              </a:rPr>
              <a:t> </a:t>
            </a:r>
            <a:r>
              <a:rPr b="0" lang="el-GR" sz="1400" spc="-1" strike="noStrike">
                <a:solidFill>
                  <a:srgbClr val="3639c4"/>
                </a:solidFill>
                <a:latin typeface="Calibri"/>
              </a:rPr>
              <a:t>Υλοποίηση ώριμων έργων ανάκτησης ή/και  διάθεσης αστικών αποβλήτων  </a:t>
            </a:r>
            <a:r>
              <a:rPr b="1" lang="el-GR" sz="1400" spc="-1" strike="noStrike">
                <a:solidFill>
                  <a:srgbClr val="ff0000"/>
                </a:solidFill>
                <a:latin typeface="Calibri"/>
              </a:rPr>
              <a:t>20.000.000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1400" spc="-1" strike="noStrike">
                <a:solidFill>
                  <a:srgbClr val="3639c4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639c4"/>
                </a:solidFill>
                <a:latin typeface="Calibri"/>
              </a:rPr>
              <a:t>Ολοκλήρωση  των υποδομών συλλογής και επεξεργασίας αστικών λυμάτων στους οικισμούς Γ’  προτεραιότητας - νέα έργα </a:t>
            </a:r>
            <a:r>
              <a:rPr b="1" lang="el-GR" sz="1400" spc="-1" strike="noStrike">
                <a:solidFill>
                  <a:srgbClr val="ff0000"/>
                </a:solidFill>
                <a:latin typeface="Calibri"/>
              </a:rPr>
              <a:t>60.0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 u="sng">
                <a:solidFill>
                  <a:srgbClr val="3639c4"/>
                </a:solidFill>
                <a:uFillTx/>
                <a:latin typeface="Calibri"/>
              </a:rPr>
              <a:t>Έργα υπό αξιολόγηση συνολικού προϋπολογισμού </a:t>
            </a:r>
            <a:r>
              <a:rPr b="1" lang="en-US" sz="1400" spc="-1" strike="noStrike" u="sng">
                <a:solidFill>
                  <a:srgbClr val="3639c4"/>
                </a:solidFill>
                <a:uFillTx/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3639c4"/>
                </a:solidFill>
                <a:latin typeface="Calibri"/>
              </a:rPr>
              <a:t>59.906.899** +  11.229.224*** =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Calibri"/>
              </a:rPr>
              <a:t>71.136.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ΑΞΙΟΛΟΓΟΥΜΕΝΑ ΕΡΓΑ ΑΝΑ ΘΕΜΑΤΙΚΗ ΚΑΤΗΓΟΡΙ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3639c4"/>
                </a:solidFill>
                <a:latin typeface="Calibri"/>
              </a:rPr>
              <a:t>Έργα διαχείρισης στερεών αποβλήτων συνολικού π/υ 46.459.276** + 11.229.224*** = </a:t>
            </a:r>
            <a:r>
              <a:rPr b="1" lang="el-GR" sz="1600" spc="-1" strike="noStrike">
                <a:solidFill>
                  <a:srgbClr val="3639c4"/>
                </a:solidFill>
                <a:latin typeface="Calibri"/>
              </a:rPr>
              <a:t>57.688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3639c4"/>
                </a:solidFill>
                <a:latin typeface="Calibri"/>
              </a:rPr>
              <a:t>Έργα ενεργειακής αναβάθμισης αθλητικών εγκαταστάσεων συνολικού π/υ </a:t>
            </a:r>
            <a:r>
              <a:rPr b="1" lang="el-GR" sz="1600" spc="-1" strike="noStrike">
                <a:solidFill>
                  <a:srgbClr val="3639c4"/>
                </a:solidFill>
                <a:latin typeface="Calibri"/>
              </a:rPr>
              <a:t>6.727.0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3639c4"/>
                </a:solidFill>
                <a:latin typeface="Calibri"/>
              </a:rPr>
              <a:t>Έργα Φορέων Διαχείρισης Προστατευόμενων Περιοχών </a:t>
            </a:r>
            <a:r>
              <a:rPr b="1" lang="en-US" sz="1200" spc="-1" strike="noStrike">
                <a:solidFill>
                  <a:srgbClr val="3639c4"/>
                </a:solidFill>
                <a:latin typeface="Calibri"/>
              </a:rPr>
              <a:t>NATURA </a:t>
            </a:r>
            <a:r>
              <a:rPr b="1" lang="el-GR" sz="1200" spc="-1" strike="noStrike">
                <a:solidFill>
                  <a:srgbClr val="3639c4"/>
                </a:solidFill>
                <a:latin typeface="Calibri"/>
              </a:rPr>
              <a:t>συνολικού π/υ </a:t>
            </a:r>
            <a:r>
              <a:rPr b="1" lang="el-GR" sz="1600" spc="-1" strike="noStrike">
                <a:solidFill>
                  <a:srgbClr val="3639c4"/>
                </a:solidFill>
                <a:latin typeface="Calibri"/>
              </a:rPr>
              <a:t>4.260.0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3639c4"/>
                </a:solidFill>
                <a:latin typeface="Calibri"/>
              </a:rPr>
              <a:t>Έργα ενεργειακής αναβάθμισης Νοσοκομείων συνολικού π/υ </a:t>
            </a:r>
            <a:r>
              <a:rPr b="1" lang="el-GR" sz="1600" spc="-1" strike="noStrike">
                <a:solidFill>
                  <a:srgbClr val="3639c4"/>
                </a:solidFill>
                <a:latin typeface="Calibri"/>
              </a:rPr>
              <a:t>2.460.4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3639c4"/>
                </a:solidFill>
                <a:latin typeface="Calibri"/>
              </a:rPr>
              <a:t>	</a:t>
            </a:r>
            <a:r>
              <a:rPr b="1" i="1" lang="el-GR" sz="900" spc="-1" strike="noStrike">
                <a:solidFill>
                  <a:srgbClr val="3639c4"/>
                </a:solidFill>
                <a:latin typeface="Calibri"/>
              </a:rPr>
              <a:t>*Αφορά  ΛΑ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900" spc="-1" strike="noStrike">
                <a:solidFill>
                  <a:srgbClr val="3639c4"/>
                </a:solidFill>
                <a:latin typeface="Calibri"/>
              </a:rPr>
              <a:t>	</a:t>
            </a:r>
            <a:r>
              <a:rPr b="1" i="1" lang="el-GR" sz="900" spc="-1" strike="noStrike">
                <a:solidFill>
                  <a:srgbClr val="3639c4"/>
                </a:solidFill>
                <a:latin typeface="Calibri"/>
              </a:rPr>
              <a:t>** ΕΥΔ ΕΠ ΥΜΕΠΕΡΑ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900" spc="-1" strike="noStrike">
                <a:solidFill>
                  <a:srgbClr val="3639c4"/>
                </a:solidFill>
                <a:latin typeface="Calibri"/>
              </a:rPr>
              <a:t>	</a:t>
            </a:r>
            <a:r>
              <a:rPr b="1" i="1" lang="el-GR" sz="900" spc="-1" strike="noStrike">
                <a:solidFill>
                  <a:srgbClr val="3639c4"/>
                </a:solidFill>
                <a:latin typeface="Calibri"/>
              </a:rPr>
              <a:t>*** ΕΚΧΩΡΗΣ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C:\Users\m.syropoulos\Desktop\map_greece.png"/>
          <p:cNvPicPr/>
          <p:nvPr/>
        </p:nvPicPr>
        <p:blipFill>
          <a:blip r:embed="rId1"/>
          <a:stretch/>
        </p:blipFill>
        <p:spPr>
          <a:xfrm>
            <a:off x="4495680" y="1143000"/>
            <a:ext cx="4648320" cy="56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54B5-6F3D-475A-8FD9-FA5CF966B2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Τίτλος 1"/>
          <p:cNvSpPr/>
          <p:nvPr/>
        </p:nvSpPr>
        <p:spPr>
          <a:xfrm>
            <a:off x="228600" y="114300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 Black"/>
              </a:rPr>
              <a:t>ΕΡΓΑ ΠΡΟΣ ΑΞΙΟΛΟΓΗΣΗ ΣΤΟ ΕΠ ΥΜΕΠΕΡΑ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Τίτλος 1"/>
          <p:cNvSpPr/>
          <p:nvPr/>
        </p:nvSpPr>
        <p:spPr>
          <a:xfrm>
            <a:off x="228600" y="144792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0000"/>
                </a:solidFill>
                <a:latin typeface="Arial Black"/>
              </a:rPr>
              <a:t>Α. ΔΙΑΧ/ΚΗΣ ΑΡΜΟΔΙΟΤΗΤΑΣ ΕΥΔ ΕΠ ΥΜΕΠΕΡΑ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80880" y="2104920"/>
          <a:ext cx="8077320" cy="3427560"/>
        </p:xfrm>
        <a:graphic>
          <a:graphicData uri="http://schemas.openxmlformats.org/drawingml/2006/table">
            <a:tbl>
              <a:tblPr/>
              <a:tblGrid>
                <a:gridCol w="2743200"/>
                <a:gridCol w="1752840"/>
                <a:gridCol w="2057400"/>
                <a:gridCol w="1523880"/>
              </a:tblGrid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ΙΤΛΟΣ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ΔΙΚΑΙΟΥΧΟΣ ΦΟΡΕ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ΡΕΧΟΥΣΑ ΚΑΤΑΣΤΑΣΗ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ΠΡΟΤΕΙΝΟΜΕΝΗ ΔΔ ΔΙΚΑΙΟΥΧ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ΕΝΤΡΙΚΗ ΜΟΝΑΔΑ ΕΠΕΞΕΡΓΑΣΙΑΣ ΜΗ ΕΠΙΚΙΝΔΥΝΩΝ ΑΣΤΙΚΩΝ ΣΤΕΡΕΩΝ ΑΠΟΒΛΗΤΩΝ ΔΥΤΙΚΟΥ ΤΟΜΕΑ ΠΑΜΘ (ΚΑΒΑΛΑ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ΙΑΜΑΑ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ΟΣ ΑΞΙΟΛΟΓΗΣΗ(335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163.2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ΤΑΘΜΟΣ ΜΕΤΑΦΟΡΤΩΣΗΣ ΑΠΟΡΡΙΜΜΑΤΩΝ ΠΑΓΓΑΙΟ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ΠΑΓΓΑΙ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ΟΣ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ΟΝΑΔΑ ΚΟΜΠΟΣΤΟΠΟΙΗΣΗΣ ΠΡΟΔΙΑΛΕΓΜΕΝΩΝ ΟΡΓΑΝΙΚΩΝ ΠΕ ΡΟΔΟΠΗΣ (ΚΟΜΟΤΗΝΗ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ΚΟΜΟΤΗΝ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ΟΣ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ΤΟΠΙΚΗ ΜΟΝΑΔΑ ΔΙΑΧΕΙΡΙΣΗΣ ΑΠΟΒΛΗΤΩΝ ΠΕ ΘΑΣ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ΘΑΣ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ΟΣ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96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7" name="Ορθογώνιο 5"/>
          <p:cNvSpPr/>
          <p:nvPr/>
        </p:nvSpPr>
        <p:spPr>
          <a:xfrm>
            <a:off x="380880" y="1752480"/>
            <a:ext cx="8058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Calibri Light"/>
              </a:rPr>
              <a:t>ΕΡΓΑ  ΔΙΑΧΕΙΡΙΣΗΣ ΣΤΕΡΕΩΝ ΑΠΟΒΛΗΤΩΝ  ΠΡΟΣ ΑΞΙΟΛΟΓΗΣΗ </a:t>
            </a:r>
            <a:r>
              <a:rPr b="1" lang="el-GR" sz="2000" spc="-1" strike="noStrike">
                <a:solidFill>
                  <a:srgbClr val="ff0000"/>
                </a:solidFill>
                <a:latin typeface="Calibri Light"/>
              </a:rPr>
              <a:t>(46.459.2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FD10-5ABC-4EB2-BD98-0934CD8A59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523880"/>
          <a:ext cx="8077320" cy="4660920"/>
        </p:xfrm>
        <a:graphic>
          <a:graphicData uri="http://schemas.openxmlformats.org/drawingml/2006/table">
            <a:tbl>
              <a:tblPr/>
              <a:tblGrid>
                <a:gridCol w="2475000"/>
                <a:gridCol w="2473200"/>
                <a:gridCol w="1363680"/>
                <a:gridCol w="1765440"/>
              </a:tblGrid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ΙΤΛΟΣ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ΔΙΚΑΙΟΥΧΟΣ ΦΟΡΕ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ΡΕΧΟΥΣΑ ΚΑΤΑΣΤΑΣΗ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ΠΡΟΤΕΙΝΟΜΕΝΗ ΔΔ ΔΙΚΑΙΟΥΧ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79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ΕΡΓΕΙΑΚΗ ΑΝΑΒΑΘΜΙΣΗ ΚΛΕΙΣΤΟΥ ΓΥΜΝΑΣΤΗΡΙΟΥ ΔΑΚΕ ΔΗΜΟΥ ΠΑΓΓΑΙ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ΠΑΓΓΑΙ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80.8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ΕΡΓΕΙΑΚΗ ΑΝΑΒΑΘΜΙΣΗ ΚΛΕΙΣΤΟΥ ΓΥΜΝΑΣΤΗΡΙΟΥ ΑΜΥΓΔΑΛΕΩΝΑ ΔΗΜΟΥ ΚΑΒΑΛ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ΚΑΒΑΛ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8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ΕΡΓΕΙΑΚΗ ΑΝΑΒΑΘΜΙΣΗ ΚΛΕΙΣΤΟΥ ΓΥΜΝΑΣΤΗΡΙΟΥ "ΜΙΧΑΛΗΣ ΠΑΡΑΣΚΕΥΟΠΟΥΛΟΣ" ΤΟΥ ΔΗΜΟΥ ΑΛΕΞΑΝΔΡΟΥΠΟΛ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ΑΛΕΞΑΝΔΡΟΥΠΟΛ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8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ΕΡΓΕΙΑΚΗ ΑΝΑΒΑΘΜΙΣΗ ΚΛΕΙΣΤΟΥ ΓΥΜΝΑΣΤΗΡΙΟΥ "ΝΙΚΟΣ ΣΑΜΑΡΑΣ" ΔΗΜΟΥ ΟΡΕΣΤΙΑΔ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ΟΡΕΣΤΙΑΔ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56.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ΕΡΓΕΙΑΚΗ ΑΝΑΒΑΘΜΙΣΗ ΚΤΙΡΙΟΥ ΚΛΕΙΣΤΟΥ ΓΥΜΝΑΣΤΗΡΙΟΥ Δ.Κ. ΔΟΞΑΤΟΥ ΔΗΜΟΥ ΔΟΞΑΤ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ΔΟΞΑΤ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8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0" name="Τίτλος 1"/>
          <p:cNvSpPr/>
          <p:nvPr/>
        </p:nvSpPr>
        <p:spPr>
          <a:xfrm>
            <a:off x="304920" y="114300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Calibri Light"/>
              </a:rPr>
              <a:t>ΕΡΓΑ  ΕΝΕΡΓΕΙΑΚΗΣ ΑΝΑΒΑΘΜΙΣΗΣ ΑΘΛΗΤΙΚΩΝ ΕΓΚΑΤΑΣΤΑΣΕΩΝ ΥΠΟ ΑΞΙΟΛΟΓΗΣΗ</a:t>
            </a:r>
            <a:r>
              <a:rPr b="1" lang="el-GR" sz="2000" spc="-1" strike="noStrike">
                <a:solidFill>
                  <a:srgbClr val="ff0000"/>
                </a:solidFill>
                <a:latin typeface="Calibri Light"/>
              </a:rPr>
              <a:t>(6.727.0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325D-54B6-4997-B42C-F549E4E165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1371600"/>
          <a:ext cx="8381880" cy="1112760"/>
        </p:xfrm>
        <a:graphic>
          <a:graphicData uri="http://schemas.openxmlformats.org/drawingml/2006/table">
            <a:tbl>
              <a:tblPr/>
              <a:tblGrid>
                <a:gridCol w="3504960"/>
                <a:gridCol w="2133720"/>
                <a:gridCol w="1371600"/>
                <a:gridCol w="1371600"/>
              </a:tblGrid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ΙΤΛΟΣ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ΔΙΚΑΙΟΥΧΟΣ ΦΟΡΕ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ΡΕΧΟΥΣΑ ΚΑΤΑΣΤΑΣΗ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ΠΡΟΤΕΙΝΟΜΕΝΗ ΔΔ ΔΙΚΑΙΟΥΧ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ΕΡΓΕΙΑΚΗ ΑΝΑΒΑΘΜΙΣΗ ΤΟΥ ΓΕΝΙΚΟΥ ΝΟΣΟΚΟΜΕΙΟΥ ΚΑΒΑΛΑΣ – ΠΑΡΑΓΩΓΗ ΕΝΕΡΓΕΙΑΣ ΜΕ ΣΗΘΥΑ ΚΑΙ ΕΝΣΩΜΑΤΩΣΗ ΜΕΤΡΩΝ </a:t>
                      </a: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ΕΞΟΙΚΟΝΟΜΗΣΗΣ ΕΝΕΡΓΕΙ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ΓΕΝΙΚΟ ΝΟΣΟΚΟΜΕΙΟ ΚΑΒΑΛ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60.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04920" y="3033720"/>
          <a:ext cx="8381880" cy="3519360"/>
        </p:xfrm>
        <a:graphic>
          <a:graphicData uri="http://schemas.openxmlformats.org/drawingml/2006/table">
            <a:tbl>
              <a:tblPr/>
              <a:tblGrid>
                <a:gridCol w="3504960"/>
                <a:gridCol w="2210040"/>
                <a:gridCol w="1295280"/>
                <a:gridCol w="1371600"/>
              </a:tblGrid>
              <a:tr h="5479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ΙΤΛΟΣ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ΔΙΚΑΙΟΥΧΟΣ ΦΟΡΕ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ΡΕΧΟΥΣΑ ΚΑΤΑΣΤΑΣΗ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ΠΡΟΤΕΙΝΟΜΕΝΗ ΔΔ ΔΙΚΑΙΟΥΧ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73044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ΑΣΕΙΣ ΔΙΑΧ/ΣΗΣ ΠΡΟΣΤΑΤΕΥΟΜΕΝΩΝ ΠΕΡΙΟΧΩΝ, ΕΙΔΩΝ ΚΑΙ ΟΙΚΟΤΟΠΩΝ ΣΤΗΝ ΠΕΡΙΟΧΗ ΕΥΘΥΝΗΣ ΤΟΥ ΦΟΡΕΑ ΔΙΑΧΕΙΡΙΣΗΣ ΕΘΝΙΚΟΥ ΠΑΡΚΟΥ ΔΑΣΟΥΣ ΔΑΔΙΑΣ-ΛΕΥΚΙΜΗΣ-ΣΟΥΦΛΙ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ΦΟΡΕΑΣ ΔΙΑΧΕΙΡΙΣΗΣ ΕΘΝΙΚΟΥ ΠΑΡΚΟΥ ΔΑΣΟΥΣ ΔΑΔΙΑΣ - ΛΕΥΚΙΜΗΣ - ΣΟΥΦΛΙ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09.0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ΑΣΕΙΣ ΔΙΑΧ/ΙΣΗΣ ΠΡΟΣΤΑΤΕΥΟΜΕΝΩΝ ΠΕΡΙΟΧΩΝ, ΕΙΔΩΝ ΚΑΙ ΟΙΚΟΤΟΠΩΝ ΣΤΗΝ  ΠΕΡΙΟΧΗ ΕΥΘΥΝΗΣ ΤΟΥ ΦΟΡΕΑ ΔΙΑΧΕΙΡΙΣΗΣ ΠΡΟΣΤΑΤΕΥΟΜΕΝΩΝ ΠΕΡΙΟΧΩΝ ΔΕΛΤΑ  ΕΒΡΟΥ ΚΑΙ ΣΑΜΟΘΡΑΚ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ΦΟΡΕΑΣ ΔΙΑΧΕΙΡΙΣΗΣ ΠΡΟΣΤΑΤΕΥΟΜΕΝΩΝ ΠΕΡΙΟΧΩΝ ΔΕΛΤΑ ΕΒΡΟΥ ΚΑΙ ΣΑΜΟΘΡΑΚ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.9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ΑΣΕΙΣ ΓΙΑ ΤΗ ΔΙΑΧ/ΣΗ ΠΡΟΣΤΑΤΕΥΟΜΕΝΩΝ ΠΕΡΙΟΧΩΝ ΕΙΔΩΝ ΚΑΙ ΟΙΚΟΤΟΠΩΝ ΣΤΗΝ ΠΕΡΙΟΧΗ ΕΥΘΥΝΗΣ ΤΟΥ ΦΟΡΕΑ ΔΙΑΧΕΙΡΙΣΗΣ ΟΡΟΣΕΙΡΑΣ  ΡΟΔΟΠ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ΦΟΡΕΑΣ ΔΙΑΧΕΙΡΙΣΗΣ ΟΡΟΣΕΙΡΑΣ ΡΟΔΟΠ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1.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ΙΧΟΡΗΓΗΣΗ ΤΟΥ ΦΟΡΕΑ ΔΕΛΤΑ ΝΕΣΤΟΥ - ΒΙΣΤΩΝΙΔΑΣ - ΙΣΜΑΡΙΔΑΣ ΚΑΙ ΘΑΣΟΥ ΓΙΑ ΔΡΑΣΕΙΣ ΔΙΑΧΕΙΡΙΣΗΣ ΠΡΟΣΤΑΤΕΥΟΜΕΝΩΝ ΠΕΡΙΟΧΩΝ ΕΙΔΩΝ ΚΑΙ ΟΙΚΟΤΟΠ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ΦΟΡΕΑΣ ΔΙΑΧΕΙΡΙΣΗΣ ΔΕΛΤΑ ΝΕΣΤΟΥ - ΒΙΣΤΩΝΙΔΑΣ - ΙΣΜΑΡΙΔ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.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4" name="Τίτλος 1"/>
          <p:cNvSpPr/>
          <p:nvPr/>
        </p:nvSpPr>
        <p:spPr>
          <a:xfrm>
            <a:off x="304920" y="106668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Calibri Light"/>
              </a:rPr>
              <a:t>ΕΡΓΑ  ΕΝΕΡΓΕΙΑΚΗΣ ΑΝΑΒΑΘΜΙΣΗΣ ΝΟΣΟΚΟΜΕΙΩΝ ΥΠΟ ΑΞΙΟΛΟΓΗΣΗ</a:t>
            </a:r>
            <a:r>
              <a:rPr b="1" lang="el-GR" sz="2000" spc="-1" strike="noStrike">
                <a:solidFill>
                  <a:srgbClr val="ff0000"/>
                </a:solidFill>
                <a:latin typeface="Calibri Light"/>
              </a:rPr>
              <a:t>(2.460.43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Τίτλος 1"/>
          <p:cNvSpPr/>
          <p:nvPr/>
        </p:nvSpPr>
        <p:spPr>
          <a:xfrm>
            <a:off x="324000" y="267336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Calibri Light"/>
              </a:rPr>
              <a:t>ΕΡΓΑ  ΔΙΑΧΕΙΡΙΣΗΣ ΠΡΟΣΤΑΤΕΥΟΜΕΝΩΝ ΠΕΡΙΟΧΩΝ </a:t>
            </a:r>
            <a:r>
              <a:rPr b="1" lang="en-US" sz="1400" spc="-1" strike="noStrike">
                <a:solidFill>
                  <a:srgbClr val="ff0000"/>
                </a:solidFill>
                <a:latin typeface="Calibri Light"/>
              </a:rPr>
              <a:t>NATURA </a:t>
            </a:r>
            <a:r>
              <a:rPr b="1" lang="el-GR" sz="1400" spc="-1" strike="noStrike">
                <a:solidFill>
                  <a:srgbClr val="ff0000"/>
                </a:solidFill>
                <a:latin typeface="Calibri Light"/>
              </a:rPr>
              <a:t> ΥΠΟ ΑΞΙΟΛΟΓΗΣΗ</a:t>
            </a:r>
            <a:r>
              <a:rPr b="1" lang="el-GR" sz="2000" spc="-1" strike="noStrike">
                <a:solidFill>
                  <a:srgbClr val="ff0000"/>
                </a:solidFill>
                <a:latin typeface="Calibri Light"/>
              </a:rPr>
              <a:t>(4.260.0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25AD-E11C-4A5A-B696-E2085F66FC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Τίτλος 1"/>
          <p:cNvSpPr/>
          <p:nvPr/>
        </p:nvSpPr>
        <p:spPr>
          <a:xfrm>
            <a:off x="228600" y="144792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0000"/>
                </a:solidFill>
                <a:latin typeface="Arial Black"/>
              </a:rPr>
              <a:t>Β. ΔΙΑΧ/ΚΗΣ ΑΡΜΟΔΙΟΤΗΤΑΣ ΕΥΔ ΠΕΠ ΑΝ. ΜΑΚΕΔΟΝΙΑΣ - ΘΡΑΚΗ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8600" y="2238480"/>
          <a:ext cx="8210520" cy="3639960"/>
        </p:xfrm>
        <a:graphic>
          <a:graphicData uri="http://schemas.openxmlformats.org/drawingml/2006/table">
            <a:tbl>
              <a:tblPr/>
              <a:tblGrid>
                <a:gridCol w="2373480"/>
                <a:gridCol w="2330280"/>
                <a:gridCol w="1754280"/>
                <a:gridCol w="1752480"/>
              </a:tblGrid>
              <a:tr h="834840">
                <a:tc>
                  <a:txBody>
                    <a:bodyPr lIns="30600" rIns="30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ΙΤΛΟΣ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ΔΙΚΑΙΟΥΧΟΣ ΦΟΡΕ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ΕΠΙΛΕΞΙΜΗ ΔΗΜΟΣΙΑ ΔΑΠΑΝΗ (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ΡΕΧΟΥΣΑ ΚΑΤΑΣΤΑΣΗ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584280">
                <a:tc>
                  <a:txBody>
                    <a:bodyPr lIns="30600" rIns="306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ατασκευή ΣΜΑ Δήμου Δοξάτ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ήμος Δοξάτ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0.9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βληθείσ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ό Αξιολό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30600" rIns="306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για την Ολοκληρωμένη Διαχείριση Αστικών Αποβλήτων Δήμου Προσοτσάν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ήμος Προσοτσάν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85.7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Αξιολογημένη προς ένταξ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lIns="30600" rIns="306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φαρμογή σχεδίου διευθέτησης – Συμπλήρωση υποδομών ΧΥΤΑ Νομού Ξάνθ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ύνδεσμος Διαχείρισης Απορριμμάτ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Ν. Ξάνθ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75.4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βληθείσ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ό Αξιολό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30600" rIns="306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ΤΟΠΙΚΗ ΜΟΝΑΔΑ ΚΟΜΠΟΣΤΟΠΟΙΗΣΗΣ ΟΡΓΑΝΙΚΟΥ ΚΛΑΣΜΑΤΟΣ ΠΑΓΓΑΙ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ήμος Παγγαί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7.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βληθείσ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ό Αξιολό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</a:tr>
            </a:tbl>
          </a:graphicData>
        </a:graphic>
      </p:graphicFrame>
      <p:sp>
        <p:nvSpPr>
          <p:cNvPr id="259" name="Τίτλος 1"/>
          <p:cNvSpPr/>
          <p:nvPr/>
        </p:nvSpPr>
        <p:spPr>
          <a:xfrm>
            <a:off x="228600" y="183528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Calibri Light"/>
              </a:rPr>
              <a:t>ΕΡΓΑ  ΔΙΑΧΕΙΡΙΣΗΣ ΣΤΕΡΕΩΝ ΑΠΟΒΛΗΤΩΝ ΥΠΟ ΑΞΙΟΛΟΓΗΣΗ</a:t>
            </a:r>
            <a:r>
              <a:rPr b="1" lang="el-GR" sz="2000" spc="-1" strike="noStrike">
                <a:solidFill>
                  <a:srgbClr val="ff0000"/>
                </a:solidFill>
                <a:latin typeface="Calibri Light"/>
              </a:rPr>
              <a:t>(11.229.2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C085-E9F4-4A4C-96B8-F1F9228CD2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Τίτλος 1"/>
          <p:cNvSpPr/>
          <p:nvPr/>
        </p:nvSpPr>
        <p:spPr>
          <a:xfrm>
            <a:off x="228600" y="1143000"/>
            <a:ext cx="8534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Arial Black"/>
              </a:rPr>
              <a:t>ΚΑΤΑΝΟΜΗ ΠΟΡΩΝ  ΑΝΑ ΘΕΜΑΤΙΚΗ ΚΑΤΗΓΟΡΙΑ ΕΡΓΩΝ ΠΡΟΣ/ΥΠΟ ΑΞΙΟΛΟΓΗΣ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Τίτλος 1"/>
          <p:cNvSpPr/>
          <p:nvPr/>
        </p:nvSpPr>
        <p:spPr>
          <a:xfrm>
            <a:off x="2743200" y="38862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6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Τίτλος 1"/>
          <p:cNvSpPr/>
          <p:nvPr/>
        </p:nvSpPr>
        <p:spPr>
          <a:xfrm>
            <a:off x="6019920" y="24382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29,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Τίτλος 1"/>
          <p:cNvSpPr/>
          <p:nvPr/>
        </p:nvSpPr>
        <p:spPr>
          <a:xfrm>
            <a:off x="3505320" y="213372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Τίτλος 1"/>
          <p:cNvSpPr/>
          <p:nvPr/>
        </p:nvSpPr>
        <p:spPr>
          <a:xfrm>
            <a:off x="4191120" y="19051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1,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Γράφημα 14" descr=""/>
          <p:cNvPicPr/>
          <p:nvPr/>
        </p:nvPicPr>
        <p:blipFill>
          <a:blip r:embed="rId1"/>
          <a:stretch/>
        </p:blipFill>
        <p:spPr>
          <a:xfrm>
            <a:off x="101520" y="1390680"/>
            <a:ext cx="8293320" cy="4984560"/>
          </a:xfrm>
          <a:prstGeom prst="rect">
            <a:avLst/>
          </a:prstGeom>
          <a:ln w="0">
            <a:noFill/>
          </a:ln>
        </p:spPr>
      </p:pic>
      <p:sp>
        <p:nvSpPr>
          <p:cNvPr id="267" name="Τίτλος 1"/>
          <p:cNvSpPr/>
          <p:nvPr/>
        </p:nvSpPr>
        <p:spPr>
          <a:xfrm>
            <a:off x="7543800" y="4800600"/>
            <a:ext cx="1600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Στερεά Απόβλητ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Ενεργ. Αναβ. Αθλητικών εγκαταστάσεω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Ενεργ. Αναβ.  Νοσοκομείω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Φορείς διαχ/σης Προστ. περιοχώ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Τίτλος 1"/>
          <p:cNvSpPr/>
          <p:nvPr/>
        </p:nvSpPr>
        <p:spPr>
          <a:xfrm>
            <a:off x="2438280" y="2057400"/>
            <a:ext cx="58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Arial Black"/>
              </a:rPr>
              <a:t>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Τίτλος 1"/>
          <p:cNvSpPr/>
          <p:nvPr/>
        </p:nvSpPr>
        <p:spPr>
          <a:xfrm>
            <a:off x="1905120" y="2590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Arial Black"/>
              </a:rPr>
              <a:t>1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Τίτλος 1"/>
          <p:cNvSpPr/>
          <p:nvPr/>
        </p:nvSpPr>
        <p:spPr>
          <a:xfrm>
            <a:off x="5435640" y="36576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Arial Black"/>
              </a:rPr>
              <a:t>7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Τίτλος 1"/>
          <p:cNvSpPr/>
          <p:nvPr/>
        </p:nvSpPr>
        <p:spPr>
          <a:xfrm>
            <a:off x="3429000" y="1981080"/>
            <a:ext cx="58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Arial Black"/>
              </a:rPr>
              <a:t>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581F-9706-4D90-8220-48750CF161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" descr="C:\Users\m.syropoulos\Desktop\draw_areas.jpg"/>
          <p:cNvPicPr/>
          <p:nvPr/>
        </p:nvPicPr>
        <p:blipFill>
          <a:blip r:embed="rId1"/>
          <a:stretch/>
        </p:blipFill>
        <p:spPr>
          <a:xfrm>
            <a:off x="388800" y="1143000"/>
            <a:ext cx="8458200" cy="5559480"/>
          </a:xfrm>
          <a:prstGeom prst="rect">
            <a:avLst/>
          </a:prstGeom>
          <a:ln w="0">
            <a:noFill/>
          </a:ln>
        </p:spPr>
      </p:pic>
      <p:sp>
        <p:nvSpPr>
          <p:cNvPr id="274" name="Έλλειψη 8"/>
          <p:cNvSpPr/>
          <p:nvPr/>
        </p:nvSpPr>
        <p:spPr>
          <a:xfrm>
            <a:off x="3048120" y="4981680"/>
            <a:ext cx="152280" cy="207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Έλλειψη 13"/>
          <p:cNvSpPr/>
          <p:nvPr/>
        </p:nvSpPr>
        <p:spPr>
          <a:xfrm>
            <a:off x="6370560" y="4294080"/>
            <a:ext cx="152640" cy="2095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Έλλειψη 14"/>
          <p:cNvSpPr/>
          <p:nvPr/>
        </p:nvSpPr>
        <p:spPr>
          <a:xfrm>
            <a:off x="2527200" y="3989520"/>
            <a:ext cx="152640" cy="2095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Έλλειψη 15"/>
          <p:cNvSpPr/>
          <p:nvPr/>
        </p:nvSpPr>
        <p:spPr>
          <a:xfrm>
            <a:off x="1828800" y="3979800"/>
            <a:ext cx="152280" cy="206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Έλλειψη 16"/>
          <p:cNvSpPr/>
          <p:nvPr/>
        </p:nvSpPr>
        <p:spPr>
          <a:xfrm>
            <a:off x="5159520" y="3365640"/>
            <a:ext cx="152280" cy="207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Τίτλος 1"/>
          <p:cNvSpPr/>
          <p:nvPr/>
        </p:nvSpPr>
        <p:spPr>
          <a:xfrm>
            <a:off x="457200" y="6248520"/>
            <a:ext cx="8534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 Light"/>
              </a:rPr>
              <a:t>ΧΩΡΟΘΕΤΗΣΗ ΕΡΓΩΝ ΥΠΟ ή/και ΠΡΟΣ  ΑΞΙΟΛΟΓΗ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Έλλειψη 33"/>
          <p:cNvSpPr/>
          <p:nvPr/>
        </p:nvSpPr>
        <p:spPr>
          <a:xfrm>
            <a:off x="8137440" y="1849320"/>
            <a:ext cx="152640" cy="208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Έλλειψη 34"/>
          <p:cNvSpPr/>
          <p:nvPr/>
        </p:nvSpPr>
        <p:spPr>
          <a:xfrm>
            <a:off x="2001960" y="3451320"/>
            <a:ext cx="152280" cy="207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Έλλειψη 35"/>
          <p:cNvSpPr/>
          <p:nvPr/>
        </p:nvSpPr>
        <p:spPr>
          <a:xfrm>
            <a:off x="7531200" y="3000240"/>
            <a:ext cx="152280" cy="208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Έλλειψη 36"/>
          <p:cNvSpPr/>
          <p:nvPr/>
        </p:nvSpPr>
        <p:spPr>
          <a:xfrm>
            <a:off x="4343400" y="3521160"/>
            <a:ext cx="152280" cy="207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Έλλειψη 37"/>
          <p:cNvSpPr/>
          <p:nvPr/>
        </p:nvSpPr>
        <p:spPr>
          <a:xfrm>
            <a:off x="1371600" y="3144960"/>
            <a:ext cx="152280" cy="207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Έλλειψη 38"/>
          <p:cNvSpPr/>
          <p:nvPr/>
        </p:nvSpPr>
        <p:spPr>
          <a:xfrm>
            <a:off x="3809880" y="3243240"/>
            <a:ext cx="152640" cy="208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Έλλειψη 17"/>
          <p:cNvSpPr/>
          <p:nvPr/>
        </p:nvSpPr>
        <p:spPr>
          <a:xfrm>
            <a:off x="5419800" y="2836800"/>
            <a:ext cx="152280" cy="208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Έλλειψη 18"/>
          <p:cNvSpPr/>
          <p:nvPr/>
        </p:nvSpPr>
        <p:spPr>
          <a:xfrm>
            <a:off x="6934320" y="4668840"/>
            <a:ext cx="152280" cy="208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Έλλειψη 19"/>
          <p:cNvSpPr/>
          <p:nvPr/>
        </p:nvSpPr>
        <p:spPr>
          <a:xfrm>
            <a:off x="5676840" y="5726160"/>
            <a:ext cx="152640" cy="208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349A-F592-445E-A3A1-6FA298ADE7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Ορθογώνιο 4"/>
          <p:cNvSpPr/>
          <p:nvPr/>
        </p:nvSpPr>
        <p:spPr>
          <a:xfrm>
            <a:off x="685800" y="2490840"/>
            <a:ext cx="762012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Calibri"/>
              </a:rPr>
              <a:t>Ευχαριστώ  για την προσοχή σα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70c0"/>
                </a:solidFill>
                <a:latin typeface="Calibri Light"/>
              </a:rPr>
              <a:t>Χαράλαμπος  Αθ. Συρόπουλ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70c0"/>
                </a:solidFill>
                <a:latin typeface="Calibri Light"/>
              </a:rPr>
              <a:t>Αγρονόμος Τοπογράφος Μηχανικός Ε.Μ.Π., </a:t>
            </a:r>
            <a:r>
              <a:rPr b="0" i="1" lang="en-US" sz="1800" spc="-1" strike="noStrike">
                <a:solidFill>
                  <a:srgbClr val="0070c0"/>
                </a:solidFill>
                <a:latin typeface="Calibri Light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70c0"/>
                </a:solidFill>
                <a:latin typeface="Calibri Light"/>
              </a:rPr>
              <a:t>Προϊστάμενος Μονάδας Απ ΕΥΔ ΕΠ ΥΜΕΠΕΡΑΑ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Γιώργος Δούκας</dc:creator>
  <dc:description/>
  <dc:language>en-US</dc:language>
  <cp:lastModifiedBy>Nikos Dritsas</cp:lastModifiedBy>
  <cp:lastPrinted>2018-12-20T11:29:31Z</cp:lastPrinted>
  <dcterms:modified xsi:type="dcterms:W3CDTF">2018-12-21T09:04:29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